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AD2B7-266E-4D98-A66A-753089B62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6E517-439D-4AAF-8F3C-7E9EEEB11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EE2E7-2DB4-4171-B3FB-4B1284579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B0F34-6C7B-4206-AC45-B37994CC5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2D641-3379-4A40-87AC-20C86F366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89D6B-4999-42CB-8D7C-88D9C10A6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9C408-36A7-4307-B8FE-3A41D45A7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94A8F-FA02-41B6-9392-225A51A05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5B7DE-FE46-4E9F-92BA-144799550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B83B7-51BA-42AF-B7FB-3F0BAA92B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82020-60AA-4BA1-BBA3-C8AFD7BA1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6AE03-7F2F-4D21-9A95-87E23C8E4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B0AED-7D00-44A7-A055-46C5E9530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E3A61-333C-4A9D-A805-77D5BF4D6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6B9DF-A032-44F0-A296-82ABECB5F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3B404-35DC-439A-BC9B-D06CD0C58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97174-9A64-4ED6-B5B2-07BF4486C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BDCC2-51D4-40E0-B52D-82283A0BA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33E22-F1F9-4154-ABEF-26CCC4A53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BA592-7FCB-4BDC-B500-22CDF836F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CD91C-FC4A-4F64-8367-3A50250E7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B4A05-5C55-4C87-9C89-5B7C3A00E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D8633-66E4-46AC-99C3-22AD752B3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9C2D3-059C-4ED9-A644-C037E9315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" descr="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7CE57-551C-4F8E-84B1-70037BD20E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8A98A-ED14-463C-B874-D0055542C2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How to Improve Your Introduction Paragraph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62576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Thesis Statemen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attracts the reader's interes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provides the reader with background inform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t focuses the reader's attention on the main idea of the essa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Thesis Statement Tip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thesis statement generally consists of two parts: your topic, and then the analysis, explanation(s), or assertion(s) that you're making about the topic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thesis statement is a very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pecifi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tatement -- it should cover only what you want to discuss in your paper, and be supported with specific evidenc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 you write and revise your paper, it's okay to change your thesis statement.  Just make sure that your "final" thesis statement accurately shows what will happen in your paper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oid Essay-ese (structure without content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In this essay I am going to relate a significant experience that changed my life.  I am going to tell how my life was before the experience happened and discuss how my life changed as a result of the experience.  Then I am going to evaluate the long term impact that the experience had on my life."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Transition to Thesis Statemen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ition from body of introduction paragraph to the the thesis of the pap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Evaluate Your Thesi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natural transi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rom the body of the introduction to your thesi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es your thesi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identify one side of the topi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th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nalysis/asser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at your are making about that topic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es your thesis onl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over materi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at will be addressed and supported with specific evidence in your paper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es your thesis us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essay-es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Thesis Statemen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es your thesis includ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overgeneralization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 not overgeneralize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 not use the words “similar”, “different”, “compare”, or “contrast” in your thesis statement without prior approval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newsflash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Purpose of Introduction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 introduction serves as A CONTRACT between a writer and his or her reader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the introduction, a writer makes specific commitments that must then be fulfilled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Evaluate Your Introduction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es your introduction mak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pecific commitment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what the paper will be abou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es you introduction have 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pecific focu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provide the reader with an accurate expectation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what your paper’s conten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Goal of Introduction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general, a good introduction accomplishes three purpos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attracts the reader's interes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provides the reader with background inform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focuses the reader's attention on the main idea of the essa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1bd6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Attracting the Reader’s Interes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rt with an attention-getter to introduce readers to the topic and allow them to become interested in i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me popular attention-getters are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ques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quo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defi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brief anecdo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startling fact or a statist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esting detai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1bd6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onnecting the attention-getter to the paragraph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attention-getter must have a bridge to the body of the introduction paragrap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3d5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Evaluate Your Attention-Getter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your attention-getter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pecifi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not using pronouns or undefined languag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your attention-getter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brie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taking no more than 2-3 sentences, including the bridg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es your attention-getter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have a bridg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the rest of the paragraph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Body of the Intro Paragraph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Be clear and direct (clarity is more important than cleverness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Provide the background information your reader needs to understand your subjec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Avoid trite expressions, such as "In the world today" or "For as long as man has existed.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Do not steal from the content of your pap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End your introduction with a clear statement of your thesi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e8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Evaluate Your Intro Body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Is it repetitive, saying the same point more than once in different wording?  Is it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lea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o the poi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Does it provide 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background inform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definition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our reader needs to understand your subjec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Do you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avoid trite expression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such as "In the world today" or "For as long as man has existed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Do you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hi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but not go into specific details of other paragraphs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Is your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grammar and wording clea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7T18:28:10Z</dcterms:created>
  <dc:creator>jgriffin</dc:creator>
  <dc:description/>
  <dc:language>en-US</dc:language>
  <cp:lastModifiedBy>BPS</cp:lastModifiedBy>
  <dcterms:modified xsi:type="dcterms:W3CDTF">2011-06-05T14:48:13Z</dcterms:modified>
  <cp:revision>8</cp:revision>
  <dc:subject/>
  <dc:title>How to Improve Your Introduction Paragraph</dc:title>
</cp:coreProperties>
</file>